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B592-B64A-4E54-8C5F-EA4521830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C471-B6AF-402D-A0F1-D780A2EE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E00-DFC3-4A64-B216-7465D65B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B8E3-E94C-44EC-B6B0-4C674650E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9DED-062C-4CDA-885B-C9AFE2F8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504E-A8E0-4BA5-B5F0-D3800922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BE11-79B7-4764-8BFC-C166F4CF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8D6-4581-48B4-959E-79C2FF25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A3EE-A6F9-4624-B712-89EFD349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6DB-C80F-4122-9101-09F30191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C39-5C49-4DCE-82FE-C7B3F36F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85EB-A72E-4D05-A229-4DB2D4A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6257C-6D6F-4A48-8A09-66C38CB90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формулюйте  другий закон відбиван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1:46Z</dcterms:modified>
  <cp:revision>2</cp:revision>
  <dc:subject/>
  <dc:title>Слайд 1</dc:title>
</cp:coreProperties>
</file>