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FEE6-B6D6-4BF8-A36E-27D69896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93C-A989-46AB-A841-3AC6049A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34D-AE9A-426A-B660-D1D17CCF3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48F-CA81-4C8B-8CAF-6AC09CA3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E2FF-B495-4792-A43F-4C6FA395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D326-0634-42BD-8140-A004D552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A58A-D908-454B-B88A-51E854D0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851C-1553-4D46-ABC6-1DCD2CD4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7C0-3EA1-48BA-9469-ECEE145B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21D0-DA94-4627-9B31-0F1DC727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5E6-9C7C-4C77-8DC3-E0DAF166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B7B-084F-4AEB-8812-10363463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98B9-FFF0-4444-9D56-36F5F55BB3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човина,  якою покритий екран кінеско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8:18:06Z</dcterms:modified>
  <cp:revision>2</cp:revision>
  <dc:subject/>
  <dc:title>Слайд 1</dc:title>
</cp:coreProperties>
</file>