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27B6-9BF3-4097-A78A-65DC81855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25B-7A44-4148-973E-2A0ED96C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C75-DD07-4EE3-9698-5B9225E1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22CA-43E0-4A4C-A7D4-EAEDF585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FCDF-7EE2-4367-AA77-84AE9594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E92-A6BD-4A3A-BD78-6EEF3179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ABE-C83B-4E6A-92E4-F521DF89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A938-D5CA-49D5-AAED-40D40814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46D-0DAC-46E1-8513-4DAF502F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3FC-20B6-45F6-BFD8-7B285766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AAEB-67E4-4146-8B0D-7C2F0FB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AF4-6217-4B55-ADEB-B2B5788B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F60B-918B-4997-8C3C-9425905F78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йближча до нас зор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59Z</dcterms:modified>
  <cp:revision>2</cp:revision>
  <dc:subject/>
  <dc:title>Слайд 1</dc:title>
</cp:coreProperties>
</file>