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773D-973B-4B26-A193-1CDD32ACA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A375-3BBA-44F0-8D96-C60B67814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79C4-E802-46AA-AA71-04CC5805C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C1FA-3F99-4234-A287-C0466884E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D098-66C1-4AAE-A87E-F22C735D5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9985-B01B-4B6B-A797-F204C2002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3E42-BFBB-4B82-A614-B89BA9E86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BC9D-A60B-4F0B-A4F6-75A634381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9FEB-30DF-4EE1-A2D6-6E8C8551E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A5AB-98EA-4E68-B118-6107030F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7B53-B312-43A9-8E17-412AE409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5D92-D82A-48CB-96C5-E9058BC7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573A4-0AA4-47DF-95E5-EEEE042ECA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 спрямовані в електромагнітній хвилі вектори напруженості електричного поля і індукції магнітного пол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Роман</cp:lastModifiedBy>
  <dcterms:modified xsi:type="dcterms:W3CDTF">2008-02-12T19:56:43Z</dcterms:modified>
  <cp:revision>2</cp:revision>
  <dc:subject/>
  <dc:title>Слайд 1</dc:title>
</cp:coreProperties>
</file>