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E95-0176-4601-9B06-0DEBB68C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DCE-9EE5-45D3-9500-954481E2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34F-8A77-42FD-82D8-0D2CA5262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934A-776E-4953-8BEC-2C61E9F7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B76-D79C-4A88-AE04-6AB48DBF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8060-4BD9-410D-94E9-5984D022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345-D3CB-4072-9915-A6DCC484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CED1-62DE-495C-9085-23C1C97A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9A07-2127-4391-B6D3-98A2E06E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A09-3A7F-46A4-B5E0-45FB006D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5253-D106-499F-B411-9A0636D9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F174-B97E-4DB3-82E0-546B12EB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27FB-DA55-456E-A643-870083E36A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випромінювання та приймання радіо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5:20Z</dcterms:modified>
  <cp:revision>3</cp:revision>
  <dc:subject/>
  <dc:title>Слайд 1</dc:title>
</cp:coreProperties>
</file>