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DE1-A7D1-4CE7-9CF5-B8FDF757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EF7D-43F9-450E-B7E5-7A254C67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11B-39DA-40BD-80F1-50463436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CA8-4F8B-40DB-8422-F5B063A4B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82AF-7DAE-445E-9383-8F014677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F07C-C6FF-4CC9-8F82-3A620854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60B-CD5A-4B34-B1CF-ED2B4F4D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41EF-96A1-4738-B369-5DDAEA8A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221B-76EC-4581-AB90-8DD09792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187-5CCB-436A-A62B-09D11068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226-C7C7-480F-8158-4CA573C5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2650-0070-4B62-81E2-7A43B66A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A83A-56D3-43E5-8D9D-CF19BF3A14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оптичний прилад використовують для виправлення дефектів зор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52:11Z</dcterms:modified>
  <cp:revision>2</cp:revision>
  <dc:subject/>
  <dc:title>Слайд 1</dc:title>
</cp:coreProperties>
</file>