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8A7-BFED-44BB-ACB2-806DF159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9D3-0204-4494-B542-4D0D218E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AE57-70C1-4509-8B33-3053FB0E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CA06-B90B-431B-A987-0D0334F58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0D4-2530-4FA1-9AFF-BEA0E51A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112E-AB12-475F-B07A-AEA892B9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C241-043A-43D0-9BAD-9B7CF575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956-A575-47E3-877C-EEBE219C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117-E770-4D39-8F64-E617C4B6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3958-26E4-402A-BA69-29984C18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624-17DB-40FE-90F3-E0591B8D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B5C-C0A1-4D06-B42C-A1EF3A60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EEC2-180F-4326-9B7A-16A3AB8FA2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більш оптично густого в мен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6:31Z</dcterms:modified>
  <cp:revision>2</cp:revision>
  <dc:subject/>
  <dc:title>Слайд 1</dc:title>
</cp:coreProperties>
</file>