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963-0A2D-49AF-AB2E-8C782863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614-041C-4649-A7D6-11E44883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56F-405C-4CC5-BCED-14B85C2C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4220-5353-4F21-862A-C26956B9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090A-DE82-4FEE-91D2-37253207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8C7-3914-42F1-9B81-83CA4DBC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5020-FAF5-472A-91AB-3D0F5E084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5B67-1ED7-4A64-9789-760875B1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B7F-A806-4DBF-8CD4-61658CFB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CF6B-C17B-4EC8-8952-89631634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F5C-87E9-4022-8FAE-0A5AC28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981-686F-4C4B-B288-89607793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3EE14-0F82-46B0-AED0-8411EA887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дві електричні лампочки не є когерентними джерелами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9:18Z</dcterms:modified>
  <cp:revision>2</cp:revision>
  <dc:subject/>
  <dc:title>Слайд 1</dc:title>
</cp:coreProperties>
</file>