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0C8C-3E9B-4333-89DB-A3B8C1FBC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63BB-35AA-4EA2-BB3F-960F4C9CF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4109-3827-4CE9-A7AE-953B07596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E6F3-6CEF-4660-97C5-36308C113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D7D4-5BAA-4440-9EC6-503221E37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7753-9E6E-4E61-B3D3-F7A647B1A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90A6-31EB-466F-B53F-1868370B3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9456-A407-4CF5-8E2C-58E4F8C52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01A5-8466-42DA-901D-A1F57FFAC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A18C-A5AA-42A3-85FB-D597A812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7B95-21CB-4628-BCCD-EF4996A8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E745-2CA0-4C63-8566-5C9882C2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CF9CA-74E7-40EA-B65C-98904CAB2B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 змінюється енергія електромагнітної хвилі  при збільшені її довжин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8:21:58Z</dcterms:modified>
  <cp:revision>2</cp:revision>
  <dc:subject/>
  <dc:title>Слайд 1</dc:title>
</cp:coreProperties>
</file>