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D113-A577-431B-AB07-1111A110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1EAF-CA30-4666-8F35-7CAF3579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5306-3BA4-4B08-ACD9-5C193413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028-E832-4B9E-B33E-58A2185E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A1B3-CE94-4BD8-A0B8-A496721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BFC8-2050-4CAB-A804-D24017B9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D44D-55D3-4DAE-932B-7693C31E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D247-D665-43BE-9720-BD03CFD1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E2B6-1B27-4B1F-9ACB-D2F4C4F6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4E45-BA78-4B3A-A779-9DAEC1AD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02C-3152-4546-886E-F5B7EC5A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205-C2B4-40EA-99CC-EF035123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D884-E028-46D9-A0E3-3D946392C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умову дифракції 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55Z</dcterms:modified>
  <cp:revision>2</cp:revision>
  <dc:subject/>
  <dc:title>Слайд 1</dc:title>
</cp:coreProperties>
</file>