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DE3-BC7A-423B-A6BA-0658E229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B30-B637-41E6-8BE6-188558B0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2B8E-EB56-4E2A-9062-1947CE07C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6802-BA8A-4CDB-A825-23FAC011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CA3-C556-4A7A-BF57-B5A1815A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EC5-7709-4C0E-9BCA-6C6A4182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64A-AA12-4FE1-B0CA-049EF52B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8AA1-5AA8-472F-963A-BA1007C1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F5D-A3F6-4306-9F1B-09250E95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DFCD-52EF-4A7F-B08E-32E8CE75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8B0-D463-4F08-9ED1-3C47EACB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38B6-90D1-4998-ADA1-134CA14B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242C-8F2E-4FAB-8582-2EA9CAE8E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м чином можна створити когерентні джерела світ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4:42Z</dcterms:modified>
  <cp:revision>2</cp:revision>
  <dc:subject/>
  <dc:title>Слайд 1</dc:title>
</cp:coreProperties>
</file>