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CC8-EBEA-4587-941D-29BB147B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D53D-E6D5-44A0-84C4-A5A5995E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35CD-3E30-4067-8BDE-78AC24EC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565-7D2F-46B5-8956-753B1E61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6EF8-B043-4070-BA9A-8010C637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4D0-CA72-4E03-B088-1804E799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738C-D843-4DC6-8CFE-9E370F15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E717-B676-43B8-B056-F2D22785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E18C-BCCF-45BB-ACF2-5E4AD16B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C29E-3DDB-4601-8D7C-B1B87447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8FB-F60F-4C3E-A868-BE9DCF2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5C7-EDD5-4D29-B302-66C0B157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2945-BF5C-4DD3-8038-293E1C9E63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уди відхиляється промінь при переході з менш оптично густого в більш оптично густе середовищ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37Z</dcterms:modified>
  <cp:revision>2</cp:revision>
  <dc:subject/>
  <dc:title>Слайд 1</dc:title>
</cp:coreProperties>
</file>