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D533-23B9-4BC2-B785-690614216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30D4-9394-48A1-9411-A4DABD1E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1645-8009-4EDB-B0C9-3790CFC0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345-C615-4135-9DDE-27859F7A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70A4-535B-4762-BE1C-B0D2BFEF2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30AB-121F-4701-B452-49E83FD50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407-5761-469D-9B1A-22EFF093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49A-E6EF-43F6-9005-6544AB7F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0CC-CF5A-41F9-B7DF-558BC034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88F4-E2E4-43A0-BF6C-039DA758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608E-851D-4AE2-829C-01290678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1895-D5EA-44D5-BEBA-68335331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040B-AA67-485A-AEFB-1E70AD8BB4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звіть кристал, який поляризує світ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8:13Z</dcterms:modified>
  <cp:revision>2</cp:revision>
  <dc:subject/>
  <dc:title>Слайд 1</dc:title>
</cp:coreProperties>
</file>