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5F8-23DC-4B86-A48F-74EDB86C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772E-8225-4F28-A840-A9B9677F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7D82-BBE3-4847-A340-93A62871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3025-8BC2-4761-9683-8D037E0E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2885-27E2-441B-8BE0-412BE79D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4239-5E2C-4F65-8F41-BF4F4827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71B9-CF78-45B9-BF06-97616F9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5228-CE5F-4487-9C75-A42729D1B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B67-1B7B-417E-BB63-58169FCE1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36A4-ED30-44A3-8B1A-674F4A00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F314-08FF-4E40-8657-C773FF9F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A1E-3F5C-4C17-8563-8103EED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B9CC-0848-4259-AB00-86BD92942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Чому сніг біли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44:56Z</dcterms:modified>
  <cp:revision>2</cp:revision>
  <dc:subject/>
  <dc:title>Слайд 1</dc:title>
</cp:coreProperties>
</file>