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1546-685F-408E-87A8-A8CC74A24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BEDB-D96C-403B-BC9A-2C413D37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199B-5447-4B44-8D32-08BCB7682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A682-115D-46CD-B1E1-9FE38CED4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108F-C0DF-4676-AD6E-666D7133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1761-5664-4A7A-967A-F4D62FFB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232F-9927-4291-9635-D5AF73D5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93BD-4D8F-4578-9DAA-5F3946B8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29E2-DFCD-4436-AE96-0F7D8D83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4265-12EC-4931-BD1F-B6AE1110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E4B4-FBA5-4E47-8381-27697CC2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C6EA-4B19-412D-86D4-12F45C93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1571-183E-4848-9EEF-C6DEDDE4E1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Без якої тварини  неможлива електронна пош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21:23Z</dcterms:modified>
  <cp:revision>2</cp:revision>
  <dc:subject/>
  <dc:title>Слайд 1</dc:title>
</cp:coreProperties>
</file>