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D210-9E9B-4F27-B1B0-800B3E4C4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5C42-01BF-4F2C-9088-E1DE4192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AE2-66EC-4252-851C-E554E418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BC3E-0316-45A7-B3FF-C94E24CE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BF10-539D-43A2-8A21-70BBC348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53DE-8AB7-41E0-9E89-69CC8104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49AE-E943-4495-A29A-D4E76E9B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FAFD-D17A-4A61-A40D-625DD02A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3856-2E11-4AE4-95CA-7FC30FF8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385-0B3F-41F3-8692-C3E7A62D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62D1-60EB-4BEF-AF20-5AF19895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B13B-CF5D-4A7A-8770-CB511840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3EB3-269C-450D-82F0-97F6F32FF7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Що таке кут заломлен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5:04Z</dcterms:modified>
  <cp:revision>2</cp:revision>
  <dc:subject/>
  <dc:title>Слайд 1</dc:title>
</cp:coreProperties>
</file>