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F18-B714-4556-A0C0-48E9BD7D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DAD-3F34-487F-96F3-B118AB9D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0A5D-5DD9-4FAA-AF20-0B8E0D68B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4BB-35A1-4AA1-9669-0DBE2591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368-60D6-443A-AD74-2818D7F2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437-71B6-4FEC-B7FF-A549209E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088-AC15-4D25-A6AE-CD88099C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31BD-EFCF-4229-B4E7-53FFCAC8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6E4D-9F7B-4C76-AF36-8737314B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C05-71DA-4364-B861-BC3FF65F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7C62-0F6C-415B-8980-8643918E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52E-2D97-4006-B5AE-6B92DE18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F446-D805-466F-A84D-732E882B78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стрій для утворення радіохви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20:43Z</dcterms:modified>
  <cp:revision>2</cp:revision>
  <dc:subject/>
  <dc:title>Слайд 1</dc:title>
</cp:coreProperties>
</file>