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5201-B523-4AAC-A907-F36CD654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20A-65FF-4735-BAF9-00245A82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5C7E-067C-4119-ADA1-69088C1BC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6104-45A4-4742-A574-B1C6B5AEB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3B1-11D5-4E84-99BE-F4430EE8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C7C0-944F-4D2A-818C-B30224D8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B653-D334-43FD-B148-9AE2B370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59B-730C-4DD8-8894-DE0E7BBA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480-6F14-48D1-B562-CD2B0B2A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3D79-FFE5-4BD3-A8F1-D59203BB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B702-6D44-4BB5-9789-39824CEB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945-3742-4B6F-B27F-7C454DFE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785F-45CB-48F6-974D-01115B1A40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ли промінь не заломлюється на межі двох середовищ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4:28Z</dcterms:modified>
  <cp:revision>2</cp:revision>
  <dc:subject/>
  <dc:title>Слайд 1</dc:title>
</cp:coreProperties>
</file>