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E1B-7C8B-4965-B207-0F6938361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3E1A-A54C-4F91-BEF4-7AAEFB8A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231-0F92-4DB2-AC37-B20A7F95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BA61-A5EF-4CA4-A3F0-5002069A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D5B-1BBA-4244-9DC8-74A58758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8B14-A9B5-4039-BB1B-8B358A58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BAF5-5633-4F06-BC8B-DDEA0FD7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67C4-A150-49E8-8EAE-F35BBAF5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38D-A7CC-4909-8A69-372EFBF4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DE5F-477E-421A-87A3-049110C3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C50-E815-4276-BAAD-E4EFD9CE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B08B-C267-4F0A-929C-10F3AA83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DD57-8C2F-4571-A635-C8C09CB5A3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мобільного зв’яз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19:53Z</dcterms:modified>
  <cp:revision>2</cp:revision>
  <dc:subject/>
  <dc:title>Слайд 1</dc:title>
</cp:coreProperties>
</file>