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EF33-D013-4D95-8A85-898E6B42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D7A3-A784-4E43-B38E-2FE70608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55B4-E7B3-41EF-A6B8-31667745E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77A1-875A-467A-B9EC-30E831AC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EC92-5105-4592-A9C9-F8F14590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05F3-7145-446E-B885-F324D70A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B47-6067-485E-B0FF-80D6725D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4FD8-87D3-44B9-AC00-A8CBFD1E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C43-8914-49D1-8B11-04E4DB04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290-4C3E-4253-BB16-2E721469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632-2BC7-437D-8033-9FAE02C3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10D-58CB-4345-8DDB-562F9C358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B98F-B633-451B-8731-4C051E032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озділ фізики, що вивчає світлові яв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57Z</dcterms:modified>
  <cp:revision>2</cp:revision>
  <dc:subject/>
  <dc:title>Слайд 1</dc:title>
</cp:coreProperties>
</file>