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D8E5-1525-4731-913A-F9F64C17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37DC-9038-42A2-9B08-55DCA1F5C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5F9B-358F-4DBA-BACE-6ACC6537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3E64-DF08-4A4A-9D9A-5EADF7F37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EC98-0BBB-4A38-99B8-827C3867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6EC0-22FD-48FC-B480-DB69A90D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4893-13EA-4A01-881B-4C7F6B2C7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E997-8B24-44D7-B4A2-8D15537B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B7C0-792C-46C3-84C7-85628D5D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5F8D-A258-4E77-BF4D-2D21C1F7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8FD7-2DE9-48AE-89B1-F33E4267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1BB8-8E33-44C3-BFA8-EAE0DB23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EBDF-01FD-4F19-B42F-4466697811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Хімічний елемент, який був відкритий на Сонці раніше ніж на Землі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38:26Z</dcterms:modified>
  <cp:revision>3</cp:revision>
  <dc:subject/>
  <dc:title>Слайд 1</dc:title>
</cp:coreProperties>
</file>