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E4B-48C8-4459-A1C2-F9D0E54A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AD88-9CF5-49C0-BD82-6053D69E3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9EEB-E99C-4AF5-B2ED-E1EF31A5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C58D-04F1-4D18-ABFA-1AA996271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4AE4-BB9D-4A6D-AF60-EC2F347A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8048-0667-4228-9E69-76FF83CC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AD4B-2B0B-40C9-AF5A-D5230BC0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FC98-4DB6-439E-AD46-74B841D2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449-E3F9-4C08-B344-20F56545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B619-246E-4F46-9ED3-ABB605C1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816-1A85-4376-92CF-3AFCB255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FE93-564F-4A4D-B020-14D6FB33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3908-9614-4E09-88CE-6A34E1E411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родній приймач світлових хви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Роман</cp:lastModifiedBy>
  <dcterms:modified xsi:type="dcterms:W3CDTF">2008-02-12T19:27:27Z</dcterms:modified>
  <cp:revision>2</cp:revision>
  <dc:subject/>
  <dc:title>Слайд 1</dc:title>
</cp:coreProperties>
</file>