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F66-32E8-4E91-934D-0F7B5B40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F54-8A63-4E35-9AB8-0B8BC8F7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0B0-B9D1-43FC-A32A-086A85C7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017D-3808-4A6E-AECB-41C56ABE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9929-BC43-4D8B-8A2D-55531390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BF6-64B2-4958-B744-DDF4638B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2B6-DE87-41CA-BCDB-7EAF5DE9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1F01-5011-42E0-A7C7-6D500C0C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B40-C8AF-4D56-B43F-A5ED4E15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ACDB-320C-48CC-AECB-F1601742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865B-D773-4612-96D9-4CD23992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D7F-95C1-4BEA-87B8-8B3BEB86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23C4-D52A-4F0B-A1A2-F7E2236C8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ий елемент спектроскоп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7:44Z</dcterms:modified>
  <cp:revision>2</cp:revision>
  <dc:subject/>
  <dc:title>Слайд 1</dc:title>
</cp:coreProperties>
</file>