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6318-8514-4124-BD48-4BB840DE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5ABC-4E12-46C7-A786-1571C0AE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7E0-0FAE-4226-8593-A72FB7B3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D19B-F7C1-4989-94FF-8C42FD72E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A3C4-417C-4518-A1DE-B93C6EBA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A96A-90FF-43DF-9A61-6D28FD6C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217A-9A8C-452C-800B-931F94DA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72C-6824-4454-8CB6-2B2E619F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C18-D9CE-4C48-86AB-FF4F5C92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CAF-03B1-4177-B119-2E7D3BAB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A6A-08C1-417D-A0ED-05E66AB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5777-0D68-44DA-99CD-33FE421E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F31A-C887-4C54-93ED-5880E86479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Що таке зміщення проме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7:33:11Z</dcterms:modified>
  <cp:revision>2</cp:revision>
  <dc:subject/>
  <dc:title>Слайд 1</dc:title>
</cp:coreProperties>
</file>