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C6A6-1ACB-47C0-A445-E06EE6343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7DC6-50FE-450F-8218-076894C4F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F80E-D10A-425E-BA5B-BFD5C7C94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6F36-E54C-496A-934D-1C8E4D153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C5C7-DBB5-4B94-9B0A-ED42FC6D4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80D0-55DB-449F-BD9B-A2FB6FB44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7137-62F6-40B2-B462-1C46844BE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8B59-6E50-4684-A2C0-77056E0AE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92F7-E0D8-49FF-BBD0-5AB3A35E2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C9BF-F03B-483A-B3E0-3992BE8AB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0ED4-9076-4394-911B-98238738E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AE3B-6385-4B17-84BC-CDF4259FD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97209-4E0F-471F-AD13-FEF0F7CB7B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а якому явищі працює цукриметр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roman</cp:lastModifiedBy>
  <dcterms:modified xsi:type="dcterms:W3CDTF">2008-02-15T08:36:56Z</dcterms:modified>
  <cp:revision>2</cp:revision>
  <dc:subject/>
  <dc:title>Слайд 1</dc:title>
</cp:coreProperties>
</file>