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5BDE-9ED3-402B-A1BC-719AEDB8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B44-34BC-4C25-A76B-669BF1E4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7AD-4807-459D-A4E8-B3BA17FF2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E082-1604-43D4-ABC1-9D040253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08D7-3955-4828-BF9C-48B85CD3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206-ED4E-4029-8F37-B8803BE2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ABD5-B793-411F-961B-78DBC711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3CA9-0085-4103-9021-C93D8379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14F-2C07-49D1-A296-EE481D9A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5DA9-2992-4A3D-9719-C26F0D53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D1A7-197B-42DB-89D3-6AEA76AE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C820-B2E8-43CC-AA8B-02455F42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B815-C677-4F29-87FF-B57D9367AC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Дефект зору, коли в сітківці ока випадає або ослаблено сприйняття одного з трьох основних кольорі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25Z</dcterms:modified>
  <cp:revision>2</cp:revision>
  <dc:subject/>
  <dc:title>Слайд 1</dc:title>
</cp:coreProperties>
</file>