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BFEC-8CAF-44F8-82B9-52F95F04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625A-D2C2-4741-AC37-D8B228C71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DD92-B29E-4B2D-B371-A634ED02A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37CB-99EE-40EF-9E0D-EE8310A1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5DE3-6AC0-40C0-809D-A4C0FC2D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4399-AB59-4926-99D5-94581239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930-AEB1-46B6-9787-E7D3F188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287-A8A6-4336-94AB-A4644282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CF3-ECE8-430B-B989-8BE37CFE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549-D095-43DB-900E-723169EF6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ED6-DA4F-4D6B-BB9F-56744296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D5F8-C907-4F10-A5CB-84A3D987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30D5-17EC-4BDF-9CFD-7982B88129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ий діапазон довжин хвиль довгих радіохви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9:10Z</dcterms:modified>
  <cp:revision>3</cp:revision>
  <dc:subject/>
  <dc:title>Слайд 1</dc:title>
</cp:coreProperties>
</file>