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C38-11E6-4C54-8326-D5FE4FFB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3B8-7294-4CBD-B93B-FC76193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A9BD-12B0-4166-8C63-79EA7C4D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2EA3-38B1-49EC-BD7A-0609788B4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D7D-F739-4D70-A87D-1EB97C7F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F734-D34F-48E6-9B15-23F027B3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20C3-4FB6-430F-94EF-C5959B10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51F-C6DE-40CB-AFB7-FC419B98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848A-8287-4D6C-B7F5-3E197382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11A-E454-42F0-B484-19580ED3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0EC-9F41-40A9-98BB-2B0BAA9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1AF-B0F5-4682-9C7B-95A192A4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DE7D-2D0D-416C-85F6-BF07320DDC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азвіть кольори дисперсійного спек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36:17Z</dcterms:modified>
  <cp:revision>2</cp:revision>
  <dc:subject/>
  <dc:title>Слайд 1</dc:title>
</cp:coreProperties>
</file>