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AF1A-37E0-46E9-9C12-AB283730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7B0D-E272-481E-B06D-98913D1A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914-2A90-474A-8788-994C5B59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1A7-3AEC-47E9-A83E-9C38E37C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6653-611B-4A07-8731-27F4E5C3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52C8-43BD-4BB2-98F3-093159A4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577-6727-4B50-8DC5-F1329171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A46-5BFF-4731-8709-9B3A75B5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07A-E84E-4734-BCE2-E79123338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5A1-5FA3-43E4-B3D6-513E8036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C442-F142-4D8E-BE0E-26AC1B4E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725-C262-42BB-9AF2-ED65386D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CC233-13C2-4CDA-A30C-209B4ADB83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Український вчений, винахідник – творець електронної системи передачі на відстань рухомого зображення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Роман</cp:lastModifiedBy>
  <dcterms:modified xsi:type="dcterms:W3CDTF">2008-02-12T19:30:01Z</dcterms:modified>
  <cp:revision>2</cp:revision>
  <dc:subject/>
  <dc:title>Слайд 1</dc:title>
</cp:coreProperties>
</file>