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A80F-4165-4299-A9AE-BB869FD9D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1CB7-43EC-45ED-B3CF-B7749569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CF05-61AB-42B4-9BC2-9D720EAC6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8196-21B7-42A9-8762-C47A9EC63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8C81-7676-4DA5-A7A8-7E2A4A5D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CAAD-CC6A-4D61-A408-926DDBF7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E933-6461-449B-BBFE-62BADB03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3C19-BC72-4BD5-BE6E-8CA2E53F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32FC-DFB7-4D85-A28D-55903A53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4DEF-99E8-415E-BE15-D2CFACD8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B221-F1C5-4984-B7F4-21BE2210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B3F1-6165-42C6-B5EC-B0A52B8C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B828-6E3E-457A-AF6D-6ECE8B7303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нша назва демодуля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3:43:05Z</dcterms:created>
  <dc:creator>Роман</dc:creator>
  <dc:description/>
  <dc:language>en-US</dc:language>
  <cp:lastModifiedBy>roman</cp:lastModifiedBy>
  <dcterms:modified xsi:type="dcterms:W3CDTF">2008-02-15T08:18:41Z</dcterms:modified>
  <cp:revision>4</cp:revision>
  <dc:subject/>
  <dc:title>Слайд 1</dc:title>
</cp:coreProperties>
</file>