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255-75D6-4AAD-8022-41AFA5DB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0D87-52B6-49D3-BFE0-D7EF0994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CCA-FAFC-4F0D-8207-016D4DF6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1012-AA61-4F2F-8A64-CF3EFA30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96A5-D9BC-44F7-A0B6-66582EFF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BE0-4551-4EB3-AFFA-A65D728D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C8C6-711D-4297-A21E-DF86C200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2BFF-B1D0-46F1-9C07-F7492D35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072D-A808-4774-B2D8-A5C1B8CE0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8CEF-729D-45AE-9394-F9EB5D09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E4C-D9AA-4529-B80C-4B7217E5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256E-619D-4279-8375-BC107C63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D31C-20BF-427C-B9CC-1721D67443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рилад для спостереження за о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’єктами з укриття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7:32:44Z</dcterms:modified>
  <cp:revision>2</cp:revision>
  <dc:subject/>
  <dc:title>Слайд 1</dc:title>
</cp:coreProperties>
</file>