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5063-A0AF-492B-A258-55BBDF559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DDA4-F7FB-467F-AE8C-7E79B7B3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52F8-920C-48F8-8883-8BFBBA483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19FE-B426-410A-A104-D1E2A86DD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733B-2299-41F8-99C8-5DD10CAA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EA82-787B-464D-9EBF-E3311397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046F-5369-435C-95CC-DC492EEC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E692-925F-4B53-84F3-40998DAC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E9B0-80D0-4A15-BA1D-F9A29596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EDAB-7E34-4E3C-BB04-AC324DA9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9347-243F-403E-8E66-205B6E44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A6EE-2B3C-4BAF-9D84-7FBDCE7A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6DCD-549F-4B7E-A693-EB1DC6BC84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 називається твердження про те, що кожна точка простору є джерелом вторинних хви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roman</cp:lastModifiedBy>
  <dcterms:modified xsi:type="dcterms:W3CDTF">2008-02-15T08:35:43Z</dcterms:modified>
  <cp:revision>2</cp:revision>
  <dc:subject/>
  <dc:title>Слайд 1</dc:title>
</cp:coreProperties>
</file>