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C201-4297-458F-B3AF-635BBD3A6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63B-D87E-49AD-AB92-646F0B3D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7BE8-8216-4018-8C62-35CC3C09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C4E-0F19-4141-97DB-3C60AE6A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594-4215-434E-970A-841F62A7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BBD0-E098-4229-A221-C9A5DA91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C62-3963-4517-BF76-574623AA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F88-C984-4D86-B9EE-AB9CC572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3610-A8C4-453F-9E8B-201369D1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3BA-3A36-4163-95C0-28CEB103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7C9D-6FBE-43C5-AAA8-13F52C4F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4CF-B3BF-4831-8C48-25D5575D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F4A7-4317-4FA8-A8D5-0FC48ABEDB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Резистор, опір якого залежить від освітленост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22:43:26Z</dcterms:created>
  <dc:creator>Роман</dc:creator>
  <dc:description/>
  <dc:language>en-US</dc:language>
  <cp:lastModifiedBy>roman</cp:lastModifiedBy>
  <dcterms:modified xsi:type="dcterms:W3CDTF">2008-02-15T08:17:32Z</dcterms:modified>
  <cp:revision>2</cp:revision>
  <dc:subject/>
  <dc:title>Слайд 1</dc:title>
</cp:coreProperties>
</file>