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34E-7DF0-4CA7-B0F7-57BE9D81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DC9-4711-494A-864A-A61175B4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290-731B-4FDB-8F16-4EC8886F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70D-E1BD-4BDA-BF50-91AD9E3C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E0C-D833-4C80-B46E-E3680ABE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B9B-FE6C-4B94-826F-02572EFA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D8B-5322-4243-A3A8-E54D96BF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971-D023-4CC0-ADB3-CA73CAFB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577-9826-423C-8ED6-D32E5E69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4F4-A80D-4643-AE95-915DDB6C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1B0-8454-464B-9E02-D9A88FBD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8CA-F190-43C0-A9A5-43D99BAB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6A54-AB79-4F62-8AFC-E2B07AA5B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реєстрації електромагнітних хвиль в перших радіоприйма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звукових коливань в електричн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еличини, які визначають положення тіла у простор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електричних коливань  в звуков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зображення об’єкта в електричні сигн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відеосигналу в видиме зображе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ампа для отримання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для визначення концентрації речови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коливальний контур, забезпечений антен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відкритого коливального конту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ій для випромінювання і приймання відбитих хвиль в радіолокаторі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демодуляції  в радіоприйма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33:22Z</dcterms:modified>
  <cp:revision>3</cp:revision>
  <dc:subject/>
  <dc:title>Слайд 1</dc:title>
</cp:coreProperties>
</file>