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EB1-CDE5-4525-8A0A-BB76CC10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7ED-C07E-44F2-BF16-15D60DA0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BC6-7489-441E-8C74-A0AC24D9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F2C-6E69-421A-8B13-D31A4821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876-5F42-4E56-B0BA-A984C6BD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597-E11C-4A02-9BE9-C01958F1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E6A-D5A6-4DAA-A6C6-53A501B3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920-B586-4AB4-9238-8BD648F3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A32-A81A-4070-A5E4-53937BC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D5D-A3B8-48A1-B6B3-34336878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177-A06C-4E23-99F6-07A43304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4B6-F5D8-4EBF-AD0D-5BD3968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90B8-31DE-49E3-B54A-CF8A6435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т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падаючим і відбитим променем 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ової хвилі в  середовищі з абсолютним показником n=2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омлення світлових променів з земній атмосфе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явище лежить в основі будови світловод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падає на поверхню під кутом 6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показник заломлення, якщо світло заломлюється на межі «вакуум – прозоре середовищ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кут заломлення, якщо кут падіння 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відбуваються зміщення променя, що падає з повітря під кутом 3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на скляну плоскопаралельну пластин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залежить граничний кут повного внутрішнь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речовина є оптично більш густ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вимірюють кут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довжина світлової хвилі під час переходу з вакууму в прозоре середовище з абсолютним показником заломлення n=1,5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8:22Z</dcterms:modified>
  <cp:revision>3</cp:revision>
  <dc:subject/>
  <dc:title>Слайд 1</dc:title>
</cp:coreProperties>
</file>