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E582-C3F5-4215-A435-1CC2B9DE7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4F4E-C8ED-479E-9E1A-5AC7AA82A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F0D0-97F0-4DF8-9384-32E246E0F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B537-6C11-4A6A-871A-FC9143F1E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58C1-183B-4B86-B82C-20AECEF78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A013-BE5C-434D-B173-7353C400A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7FD0-941F-458E-9E77-6F20A720D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8DD0-07BC-49EA-92F8-A68A83648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7ACE-4953-4A43-AA15-D062ADC14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36ED-84F4-43C3-A35F-E6577057F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3BB3-B7D3-4A1D-8A2C-9855432F7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5D42-8114-46A6-88FB-9EDFBB4CC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497E3-2358-4D9F-9BBA-FDBD20BC31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Кількість коливань за одиницю час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Дифракційна гратка має  100 штрихів на один міліметр. Яка стала дифракційної гратк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Що буде спостерігатися, коли в різниці ходу поміщається непарне число півхвиль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чений, який вперше застосував дифракційну ґратку для дослідження спектр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стрій – сукупність багатьох дуже вузьких щілин, розділених непрозорими смужками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Для чого застосовують дифракційну ґратку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ума ширини прозорої і непрозорої смуг дифракційної ґратки.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 яких одиницях вимірюється стала дифракційної гратк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 зміниться відстань між максимумами дифракційного спектра коли  екран віддалити від решітк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ий вигляд має дифракційна картина при  освітленні дифракційної ґратки монохроматичним світлом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а якою формулою можна визначити максимальний порядок дифракційного спектра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 зміниться відстань між максимумами дифракційного спектра, коли збільшити  довжину хвилі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8:51:13Z</dcterms:created>
  <dc:creator>Роман</dc:creator>
  <dc:description/>
  <dc:language>en-US</dc:language>
  <cp:lastModifiedBy>Роман</cp:lastModifiedBy>
  <dcterms:modified xsi:type="dcterms:W3CDTF">2008-02-12T17:23:36Z</dcterms:modified>
  <cp:revision>4</cp:revision>
  <dc:subject/>
  <dc:title>Слайд 1</dc:title>
</cp:coreProperties>
</file>