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928-AF66-497D-B017-E527CA30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4FC-59AB-4C57-ACF9-5E5449AF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DEB-ED58-4EFD-BBEF-6F99526C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CF5-7EAC-480E-AC3B-FE74B394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60C-D365-4176-B2E1-99CAFF3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940-1318-4D05-93B8-AA0D2BB7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51A-EA0A-463A-8256-5B96EB3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D80-74A4-4860-AE6C-8E2AF09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DF8-EF2C-40D2-90F6-0916AD4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A19-7F93-4C6E-99F1-38A8646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A61-197D-4215-A84A-FF9FFEF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0EB-58EB-4520-A244-790465B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464-E1DC-468E-B560-D1CED34DC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пер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алежить показник заломлення середовища від дов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пропускає червоне ск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отримаємо, якщо скласти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є тіло, що поглинає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е явище в атмосфері, що являє собою одну, дві чи декілька різнокольорових 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фотографування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перв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втор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найменше заломлюється в тригранній приз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розташоване в спектрі між жовтим і червоним кольор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41:11Z</dcterms:modified>
  <cp:revision>3</cp:revision>
  <dc:subject/>
  <dc:title>Слайд 1</dc:title>
</cp:coreProperties>
</file>