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56F-CFC5-4B51-BEDB-9B47CBB1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E26-FBB1-43B1-82CC-78AD20EC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7DE-35A9-4709-BEA6-F9E4F9D6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E98-90D3-4B18-A2F6-9DFF6B14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3DD-5BF4-4CC6-8403-CB523A2C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A4A-6CED-455E-9BF6-A390D76D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6C7-6F6D-42E4-9370-654E7034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F7A-CC8A-4825-9C9A-02AAFD31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005-F370-471F-9D61-AA327713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93D-4D8C-4C76-AEFC-E6854A53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F4B-2498-43F0-9771-AE515D0C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84F-AF54-4A1B-9DCB-5F176AD6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A70C-77F9-45BD-8A91-F31AC838C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хвилі однакової част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ення прозорості лінз та об’єктивів для світла певної довжини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ають лінзи з просвітленою оптик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світлення оптики підвищує прозорість лінз для якого кольору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вилі, що мають однакову частоту та постійну різницю фаз в кожній точці просто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артина чергування максимумів і мінімумів колива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можна спостерігати інтерференцію від вмикання двох електричних лампоч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мінімальна відстань між сусідніми максимумами при інтерференції хвиль з довжиною 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інтерференційними максимумами, які утворені за допомогою біпризми, якщо від освітлення синім кольором перейти до використання червоно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інтерференційними максимумами, які утворені за допомогою біпризми, якщо занурити всю установку в во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Американський вчений, конструктор інтерферометра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нахідник бідзеркал та біпризм для дослідження інтерференції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9:28:54Z</dcterms:modified>
  <cp:revision>4</cp:revision>
  <dc:subject/>
  <dc:title>Слайд 1</dc:title>
</cp:coreProperties>
</file>