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AD9-231D-4188-BBC8-811508DE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CF3C-D238-4E2F-B012-3EF72467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EDA-D3BA-44C4-85C9-2BE975F1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299-A143-4904-B7BC-82FF6D6B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FFD-7622-497E-8866-FA6CDE00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8C0-0AD1-437F-8845-BD4DECEE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317-FDD9-414D-A8D4-B4A4D8AE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020-2FC2-47CD-BC97-41B831F1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330-5D47-4CDF-B142-A29FA01A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DA2-1CFA-452C-9B86-3BC68BEB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90F-FDAE-461C-923E-5FC0C400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965-DC15-46F1-B8CA-561BCAB0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23AD-5255-4E6C-98C4-8B11D27B3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яких речовин добре відбиваються електромагнітні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ому середовищі промінь світло може поширюватися криволіній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м пояснюється виникнення весел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м пояснюється забарвлення мильних бульбаш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ще накладання когерентн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ще огинання хвилями  країв перешкод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ктромагнітні хвилі поздовжні чи поперечн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ежність показника заломлення від довжини світлової хви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, в якого електричні коливання здійснюються весь час в одній і лише одній площин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ощина, в якій здійснюються магнітні колива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ощина, в якій здійснюються електричні кол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промені якого кольору найменше заломлюються в тригранній призм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9:28:36Z</dcterms:modified>
  <cp:revision>8</cp:revision>
  <dc:subject/>
  <dc:title>Слайд 1</dc:title>
</cp:coreProperties>
</file>