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F890-7162-4489-8788-2F26961E4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BF71-69ED-495B-9A17-2E00DB6E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7D0B-9357-4EDD-9185-673610C7C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1E70-CE11-4DFC-B5A9-1842B1627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3990-0A7D-4C9D-8B34-38FC9642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27B7-BDB6-4772-99CF-07CD31A2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C48D-30D2-440F-9F32-A141B6FF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875F-E359-4710-9B6E-13857B36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12A7-B307-4D0A-8454-3C6DF98E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13E2-8E68-4DED-B8D5-47643C58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36C5-DC9D-44EE-9BEA-53E6FFFD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0A50-6407-4C8B-8227-95D6FE9F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6B33-1BC9-403A-A190-96ED98972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і хвилі застосовуються для  радіолокації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і промені застосовуються для сушіння матеріалів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і хвилі застосовуються для космічного зв’язк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а сполука в атмосфері Землі захищає її від космічних ультрафіолетових променів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і промені використовуються для руйнування злоякісних пухлин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мені, що  мають сильну бактерицидну дію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 якого матеріалу виготовляють лінзи та призми для дослідження ультрафіолетових променів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 якого матеріалу виготовляють лінзи та призми для дослідження інфрачервоних променів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і хвилі застосовуються для передачі телевізійних сигналів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етод визначення змін в організмі за допомогою рентгенівських  промен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етод виявлення дефектів у деталях машин за допомогою рентгенівських промен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лади, які трансформують інфрачервоне зображення в видим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17:02:42Z</dcterms:modified>
  <cp:revision>3</cp:revision>
  <dc:subject/>
  <dc:title>Слайд 1</dc:title>
</cp:coreProperties>
</file>