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B914-D8C5-4D0F-9977-6E36679AD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3115-8BEB-4514-8434-6C2D86EE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50D8-5328-4C1F-B4BF-BBF33B154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FA15-019B-4410-BDFC-4AB57C3D9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9F17-5213-4721-BECA-696B7BF5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DCF9-58F2-4154-A440-EA0B22D1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D296-1BC8-48D9-BEF3-A67D1D0A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6A08-CFC3-4931-936A-FA9C1FD6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4859-EDA9-44FF-95D5-187A4289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46BD-FA29-418B-8863-30066D74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56FE-481B-4E0F-A43F-5D4BEC3B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AE02-3557-46D8-86EB-55C768FA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342A-B947-4651-9CF1-658B4807E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 скільки кольорів поділив Ньютон суцільний спектр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, який перетворює природне неполяризоване світло в поляризован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датність ока пристосовуватися до різної яскравості предмет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юється вигляд неба при підніманні вгор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іж якими кольорами у смужці спектра розміщений зелений колір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 якого кольору відбиває зелений виноград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ому середовищі  промінь світла може поширюватися криволінійн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ому ми бачимо тіла, які є навколо нас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а найбільша довжина хвиль видимого світл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е природне явище допомогло О.Ремеру визначити швидкість світл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стань між найближчими  точками світлової  хвилі, які коливаються в однаковій фаз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ві промені якого кольору мають найменшу довжин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17:40:57Z</dcterms:modified>
  <cp:revision>3</cp:revision>
  <dc:subject/>
  <dc:title>Слайд 1</dc:title>
</cp:coreProperties>
</file>