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F4C-1980-4A1B-B6E2-69CC042C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F51-E19E-4260-AE66-34B0C37B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248-E380-443F-9520-E56850E4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77B-D8DC-418C-A8D9-53844BCC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02C-53EF-4EF3-9948-D599CD07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0EF-146E-4B06-A354-C2B1D5EF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0D7-52E5-4549-9AF5-457FA9A6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39D-4F51-48DC-8C8F-D4F1B2D7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F6F-FB82-4EC5-8FA1-BE9A3B83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C98-47B2-431F-8148-4B675A86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B09-8501-47FE-B25A-9F00B040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228-E087-4648-96E0-1EAAD743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79F5-9499-43A6-8B8C-4974B7034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 одного повного коливання поля електромагнітної хвил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здійснити радіозв’язок  між  двома підводними човнами, розташованими на глибині в океані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 електроємність конденсатора при переході на прийом станції, що веде  передачу на довших хвиля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ий діапазон довжин хвиль ультракоротких  радіохви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іна  амплітуди високочастотних коливань коливаннями зву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цес виділення інформації з модульованих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формули для визначення періоду власних коливань в коливальному конту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дача мови та музики з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ення місцезнаходження об’єктів за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радіолок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призначений для демонстрації нерухомих і рухомих зображень із звуковим супрово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утруднений радіозв’язок  на коротких хвилях у гірській місцевост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52:03Z</dcterms:modified>
  <cp:revision>5</cp:revision>
  <dc:subject/>
  <dc:title>Слайд 1</dc:title>
</cp:coreProperties>
</file>