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510-4737-47ED-82A1-AFCD7D6F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C6A-15EE-4579-B318-37983B0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4A7-561C-40B7-8F1D-B97F232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372-B383-4300-AF4B-C3680FAB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DB8-D457-499B-B6E4-940EB576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46F-36D6-4518-8481-BC1218F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8BB-4A4B-4021-989F-9FF49EC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2A7-F328-494C-AA0B-146FB19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D6F-DD3F-47AE-82FF-96A16D5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D21-19ED-46A5-BDD7-9AE80EF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EBF-0A9E-4937-A888-E39070C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5CA-6A0F-4BB5-897B-D21BE6C0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7BFA-C0D7-481F-9FCC-69E90EEA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Відбіркови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індуктивність кот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Фа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Генр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м можна пояснити різнобарвні смуги  на плівці бензину на мокрому асфаль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промені називають теплов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видим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інфрачерв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рентгенівськ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ультрафіолет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Формула для визначення періоду вільних електромагнітних коливань в коливальному конту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076640"/>
                <a:ext cx="7239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0" y="465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44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00720" y="4076640"/>
                <a:ext cx="733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566100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-13680" y="5324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43640" y="5589720"/>
                <a:ext cx="733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прилад для контролю якості поверхні шліфованих вироб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когер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іді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йна гр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 змінюється частота світла під час переходу з вакууму в прозоре середовище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бсолютним показник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збіль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залежить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ута паді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залиша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мін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змен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. В яких одиницях вимірюється густина енергії електромагнітної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Дж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безрозмі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ж/м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ється густина потоку випромінюва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J=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sin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 межі довжин хвиль видимого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0,4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λ≥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0,4 – 0,77 м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0,76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показник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залежність показника заломлення світла від до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 якому році було сконструйовано перший  генератор незатухаючих електромагнітних колив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1894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 1913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1902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1897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14:21Z</dcterms:created>
  <dc:creator>Роман</dc:creator>
  <dc:description/>
  <dc:language>en-US</dc:language>
  <cp:lastModifiedBy>Роман</cp:lastModifiedBy>
  <dcterms:modified xsi:type="dcterms:W3CDTF">2008-02-12T16:40:28Z</dcterms:modified>
  <cp:revision>8</cp:revision>
  <dc:subject/>
  <dc:title>Слайд 1</dc:title>
</cp:coreProperties>
</file>