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F65-9A4B-49C3-9082-2F71D5FF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BF7-4EB5-4572-8363-6D4B7E26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654-3B31-4BD6-9C31-A78ADA23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2E0-7FBA-4F17-B20D-68CB8D73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60A-0286-4E2A-BAD5-1FDF5DE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C7C-5C5B-406F-AED0-08ABA0D3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4BA-6B32-4F5C-B76B-181D3E47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957-8EDA-4AD2-A0B4-D84F83B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8B0-CC67-413B-84DD-E4BAF0F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599-10A0-4A56-B9CA-1D68D17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86B-80B3-4A5E-9098-9489440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96B-5301-4670-9F2B-E922FF77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0E1-BE3F-4024-978A-4EC6CFAE7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що дозволяє комп’ютеру передавати та отримувати дані по телефонній лін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9:32Z</dcterms:modified>
  <cp:revision>2</cp:revision>
  <dc:subject/>
  <dc:title>Слайд 1</dc:title>
</cp:coreProperties>
</file>