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013-0949-4C29-8918-B7852FD9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69B-629C-489D-A355-80559FE2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2DA-76C9-4CB6-9FC3-54996FAE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45A-39D8-48A2-8084-13D1C2E1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02D-4D15-4B7E-9237-D13DD7F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ADD-6161-4F0F-B1A8-2D10E860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93A-C820-4B9F-A891-D18550EB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E1D-BA40-48C2-AFB3-C83CE36D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36A-28D9-4BCD-9E90-C73C5262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6F2-03CF-44FB-9C9D-C764EAAF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272-FFFD-4B25-BC18-055DE15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7C6-8B65-4DB0-8CA2-84DB71F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CA66-62D3-4FE9-93CE-C5FA13C3E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приладах використовується  повне відбивання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16Z</dcterms:modified>
  <cp:revision>2</cp:revision>
  <dc:subject/>
  <dc:title>Слайд 1</dc:title>
</cp:coreProperties>
</file>