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5A0-3B7F-42DD-B04F-1D3D210A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787-12A2-4F53-BF4A-16724BA7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39E-02D1-4568-825A-E69DD1C2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C25-8166-4D72-94F2-03AAFDD1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70F-4F10-48D4-8C02-61F2B029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761-A94E-43AC-8A37-A1E6AFC5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C54-A363-4645-800F-7C04FB25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4EE-4DB3-447B-A89B-2676F77B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EA1-3536-407B-8112-022AAAEA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80A-01AE-49EA-B5F5-ABEDD6D2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773-6AD8-4906-BBB8-F9D615FD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1C6-3433-4C3A-A6E1-FEDEB9FF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A8B7-226A-47FE-BD09-CF1780275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яких хвиль спостерігається явище поляри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20Z</dcterms:modified>
  <cp:revision>2</cp:revision>
  <dc:subject/>
  <dc:title>Слайд 1</dc:title>
</cp:coreProperties>
</file>