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27D-D0E0-494F-A843-17F70C1B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E53-AAC2-41AE-8DD9-77963E7A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710-3D20-4C79-81B0-07F5883E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AFC-4A41-4EB0-B64B-09BA91F8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A84-E52C-49EC-A90F-49ADB6AF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58D-D8D1-4AEB-B03A-1E5B5252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05B-4BC5-4A3D-9AC0-C7DDEA14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785-0EA1-4453-8F23-5F41630B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4B7-9C7D-4FF4-9978-2CCB4E42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86E-09C9-4AA3-9C5B-4AAB2B54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9C1-AB89-4B6A-8C23-39979166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E5F-C7C4-43EC-B893-2466BC05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CEB7-D888-4214-B074-733A1DFA2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формулюйте  другий закон відби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1:46Z</dcterms:modified>
  <cp:revision>2</cp:revision>
  <dc:subject/>
  <dc:title>Слайд 1</dc:title>
</cp:coreProperties>
</file>