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3D30-E6E4-498D-A08B-A4BB93C11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628A-6467-43CE-BA47-09F807294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6F45-ED89-4CF1-87EF-5C12FDE27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6174-CA79-49FB-8AFB-AEEAD3306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564D-B6CC-4612-8A6D-2AFC1182E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C230-CFA6-4B8E-90DC-DDA83ED37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D67A-CB8E-42C6-963C-F963CFFF9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89DD-7073-427B-8F00-134BFC217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5759-F9D0-4388-97B2-461A9A2C7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428B-31AB-49F4-993E-2C82D00D2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F582-0DED-4DCF-A2DE-D1C7BA5D5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4F02-A947-4B67-B1DF-18DA12D84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C604F-138B-4D3E-8957-A902BF9E83F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Речовина,  якою покритий екран кінескоп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2T22:43:26Z</dcterms:created>
  <dc:creator>Роман</dc:creator>
  <dc:description/>
  <dc:language>en-US</dc:language>
  <cp:lastModifiedBy>roman</cp:lastModifiedBy>
  <dcterms:modified xsi:type="dcterms:W3CDTF">2008-02-15T08:18:06Z</dcterms:modified>
  <cp:revision>2</cp:revision>
  <dc:subject/>
  <dc:title>Слайд 1</dc:title>
</cp:coreProperties>
</file>