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4CFE-22DC-48F5-8E03-5B409A0A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2255-AE50-40B4-B82C-EF57C7AD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2CA8-8012-49C4-B1C3-624CAE863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4D64-509C-48FD-9047-A1E07B50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7E51-3C18-409B-9F75-7D799D83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3F2B-2AA3-4DF5-8B78-37D3F8F6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3FCE-87AF-4F57-8BE6-2FDA5022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BD6B-4BD9-453F-9BFF-B1DBCAF7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8B29-0BF5-40CF-99DF-E81E21C2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E776-638D-48D2-BC6C-B0A6C59F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8CEB-D95E-4EB5-BF1B-45D480D1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7035-7D7D-4DD1-B563-33F4B0C0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30CA-5569-4B2F-B4D9-F398DED558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йближча до нас зор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Роман</cp:lastModifiedBy>
  <dcterms:modified xsi:type="dcterms:W3CDTF">2008-02-12T19:27:59Z</dcterms:modified>
  <cp:revision>2</cp:revision>
  <dc:subject/>
  <dc:title>Слайд 1</dc:title>
</cp:coreProperties>
</file>