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DEE-CBDC-494A-92E5-4CF1A83B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223-6CD0-4107-8429-788F6AE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013-9557-40D9-8CAC-2F4B8BA3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649-C4B2-4BC0-8B7E-0D28A414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39B-9B3F-4A3F-BF25-A57F5C91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162-1011-481F-89E8-69328D1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F13-C037-412F-B724-BF494337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D72-5ECB-4861-BB5F-35FDAF1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CE9-AEAA-47A4-9444-23E9789B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316-1BED-436E-AB6A-7D55C93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2D6-CF15-4388-8A2F-0CC4ADF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551-6CB2-4561-B4F1-1F6A71C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9EFC-56C2-4DA9-87A3-D21B69608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спрямовані в електромагнітній хвилі вектори напруженості електричного поля і індукції магнітного п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6:43Z</dcterms:modified>
  <cp:revision>2</cp:revision>
  <dc:subject/>
  <dc:title>Слайд 1</dc:title>
</cp:coreProperties>
</file>